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AEED-404B-4965-BB35-B9C2EFFF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6224-EE9A-4CD3-A46A-C8BB89A0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31B8-4575-42BB-9072-C9C7B80B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8D92-A672-4409-9872-BD19FEF3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A0A7-8DE3-487C-BB36-9847C14A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8AD2-2500-4134-8668-D3871329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98FE-DC82-41D1-83AD-3493E50C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888A-1AFF-4DD4-A076-343505DA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DD68-E8EE-4A74-B6F5-0D089D5C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37F6-2DFF-43C1-BCF2-FBD01B86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9FB1-8261-4AA7-B2FA-48F2FDDF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89D1-25C4-437B-86A3-4E66B2D9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13CC-9602-464A-9528-6CBD7EAE9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-am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Word Famil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9720" y="2743200"/>
            <a:ext cx="1676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h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j0264324" descr=""/>
          <p:cNvPicPr/>
          <p:nvPr/>
        </p:nvPicPr>
        <p:blipFill>
          <a:blip r:embed="rId1"/>
          <a:stretch/>
        </p:blipFill>
        <p:spPr>
          <a:xfrm>
            <a:off x="3733920" y="4495680"/>
            <a:ext cx="2288880" cy="15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14800" y="2819520"/>
            <a:ext cx="1600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j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112460" descr=""/>
          <p:cNvPicPr/>
          <p:nvPr/>
        </p:nvPicPr>
        <p:blipFill>
          <a:blip r:embed="rId1"/>
          <a:stretch/>
        </p:blipFill>
        <p:spPr>
          <a:xfrm>
            <a:off x="3886200" y="4343400"/>
            <a:ext cx="1625760" cy="20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29000" y="27432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2743200"/>
            <a:ext cx="1676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S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SY00628_" descr=""/>
          <p:cNvPicPr/>
          <p:nvPr/>
        </p:nvPicPr>
        <p:blipFill>
          <a:blip r:embed="rId1"/>
          <a:stretch/>
        </p:blipFill>
        <p:spPr>
          <a:xfrm>
            <a:off x="4114800" y="4038480"/>
            <a:ext cx="107640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053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2743200"/>
            <a:ext cx="1600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b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j0078623" descr=""/>
          <p:cNvPicPr/>
          <p:nvPr/>
        </p:nvPicPr>
        <p:blipFill>
          <a:blip r:embed="rId1"/>
          <a:stretch/>
        </p:blipFill>
        <p:spPr>
          <a:xfrm>
            <a:off x="3505320" y="4038480"/>
            <a:ext cx="2881080" cy="21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00400" y="27432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2743200"/>
            <a:ext cx="1676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d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j0283098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146376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95480" y="274320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2743200"/>
            <a:ext cx="1676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8380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r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j0078922" descr=""/>
          <p:cNvPicPr/>
          <p:nvPr/>
        </p:nvPicPr>
        <p:blipFill>
          <a:blip r:embed="rId1"/>
          <a:stretch/>
        </p:blipFill>
        <p:spPr>
          <a:xfrm>
            <a:off x="3048120" y="4191120"/>
            <a:ext cx="2262240" cy="22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429000" y="2666880"/>
            <a:ext cx="1600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cr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2666880"/>
            <a:ext cx="106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c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j0250897" descr=""/>
          <p:cNvPicPr/>
          <p:nvPr/>
        </p:nvPicPr>
        <p:blipFill>
          <a:blip r:embed="rId1"/>
          <a:stretch/>
        </p:blipFill>
        <p:spPr>
          <a:xfrm>
            <a:off x="3276720" y="4495680"/>
            <a:ext cx="1198440" cy="1636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3:28:54Z</dcterms:created>
  <dc:creator>Wake County Public Schools</dc:creator>
  <dc:description/>
  <dc:language>en-US</dc:language>
  <cp:lastModifiedBy>Wake County Public Schools</cp:lastModifiedBy>
  <dcterms:modified xsi:type="dcterms:W3CDTF">2005-08-08T01:42:21Z</dcterms:modified>
  <cp:revision>10</cp:revision>
  <dc:subject/>
  <dc:title>-ill Word Family</dc:title>
</cp:coreProperties>
</file>